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FC8-8711-4B01-A025-F75D18CF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2B9-9B83-4D14-8EDD-874E0D6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130-8905-443B-B435-7B8B475E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1EE-C914-476C-ABC7-FE7173B5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BC1-B43A-42F0-80D1-D2F4DC9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E52-973E-4C32-A06A-4338F94D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E43-1300-4274-8A05-F494FFD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657-C9E3-4F42-ADCD-38AE4E9D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7C1-D5F2-4669-90ED-9F3FA7B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081-686F-4CED-B3EA-9F3B551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322-D3D4-45CA-ABE0-87BF4615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277-527A-46CE-876E-52932D48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F75-9A3B-4617-9008-38769F4B942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Да се насладим на уникалната природа на Бъ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427640" cy="23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309840" cy="23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8360" y="4067280"/>
            <a:ext cx="3527280" cy="259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896000" y="404964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66"/>
                </a:solidFill>
                <a:latin typeface="Arial"/>
              </a:rPr>
              <a:t>ОБШИРНАТА РОДОПА ПЛ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0000"/>
                </a:solidFill>
                <a:latin typeface="Arial"/>
              </a:rPr>
              <a:t>СКАЛНИТЕ МОСТ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0000"/>
                </a:solidFill>
                <a:latin typeface="Arial"/>
              </a:rPr>
              <a:t>Скалните гъб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349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66"/>
                </a:solidFill>
                <a:latin typeface="Monotype Corsiva"/>
              </a:rPr>
              <a:t>Белоградчишките ска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00"/>
                </a:solidFill>
                <a:latin typeface="Arial"/>
              </a:rPr>
              <a:t>МОНАХЪТ И МОНАХИН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ff"/>
                </a:solidFill>
                <a:latin typeface="Arial"/>
              </a:rPr>
              <a:t>МЕЛНИШКИТЕ ПИРАМ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0000"/>
                </a:solidFill>
                <a:latin typeface="Monotype Corsiva"/>
              </a:rPr>
              <a:t>РИЛСКИТЕ ЕЗ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993366"/>
                </a:solidFill>
                <a:latin typeface="Monotype Corsiva"/>
              </a:rPr>
              <a:t>Езерото “Бъбрека”от птичи погл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ccff66"/>
                </a:solidFill>
                <a:latin typeface="Monotype Corsiva"/>
              </a:rPr>
              <a:t>Езерото “Бъбрека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ccff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ccff66"/>
                </a:solidFill>
                <a:latin typeface="Arial"/>
              </a:rPr>
              <a:t>Ягодинската пещ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66"/>
                </a:solidFill>
                <a:latin typeface="Arial"/>
              </a:rPr>
              <a:t>Съева ду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66"/>
                </a:solidFill>
                <a:latin typeface="Franklin Gothic Medium"/>
              </a:rPr>
              <a:t>С. Гранит Старозагорско – Гранитски дъб - Най-старото дърво у нас, от вида летен дъб. Възрастта му се изчислява на около 1650 години. Короната му е 1017 кв. м, обиколката на стъблото - 7,45 м, а височината - 23,40 м.Той е поникнал през 334-335 година. Дървото буквално е изсъхнало през последните 20 години. От огромната, прекрасна, зелена корона, днес е останал само един сух скелет,с няколко живи клона, подкрепян от стоманена конструнция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443376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9933"/>
                </a:solidFill>
                <a:latin typeface="Arial"/>
              </a:rPr>
              <a:t>БАЙКУШЕВАТА М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Arial"/>
              </a:rPr>
              <a:t>На второ място по възраст е Байкушевата мура - черна мура - открита през 1897 г. от лесовъда К. Байкушев който тогава е изчислил възраста и на 1200 г. Намира се край хижа Бъндерица н.в. 1930 м. има обиколка 7,8 м. височина 22 м. и диаметър 2,5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Monotype Corsiva"/>
              </a:rPr>
              <a:t>Витошко ла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000000"/>
                </a:solidFill>
                <a:latin typeface="Monotype Corsiva"/>
              </a:rPr>
              <a:t>Родопско лал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66"/>
                </a:solidFill>
                <a:latin typeface="Monotype Corsiva"/>
              </a:rPr>
              <a:t>Рилска игли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6000" spc="-1" strike="noStrike">
              <a:solidFill>
                <a:srgbClr val="ffff66"/>
              </a:solidFill>
              <a:latin typeface="Monotype Corsiva"/>
            </a:endParaRPr>
          </a:p>
        </p:txBody>
      </p:sp>
    </p:spTree>
  </p:cSld>
  <p:transition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66ccff"/>
                </a:solidFill>
                <a:latin typeface="Monotype Corsiva"/>
              </a:rPr>
              <a:t>Пясъчна лил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Легенда за еделвай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</a:rPr>
              <a:t>Живели някога сестра и брат, Едел и Вайс. Един ден, докато си лежали на някаква поляна, Вайс видял един непознат бял цвят високо на скалите. Показал го на сестра си Едел и тя предложила да се покатерят догоре и да го откъснат като подарък за техните родители. Започнали да се изкачват двете деца, но колкото по-нагоре отивали, толкова по-трудно ставало. Едва успял Вайс да откъсне непознатото цвете, когато усетил, че камъка се изплъзва под пръстите му. Извикал на сестра си, че пада, тя му подала ръка в желанието си да го спаси и двамата полетели в пропастта. На следващата година на мястото, където двамата паднали, поникнало цвете, което в памет на децата кръстили ЕДЕЛВАЙС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134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3399"/>
                </a:solidFill>
                <a:latin typeface="Monotype Corsiva"/>
              </a:rPr>
              <a:t>Р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МУФЛ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0000"/>
                </a:solidFill>
                <a:latin typeface="Monotype Corsiva"/>
              </a:rPr>
              <a:t>КЪДРОГЛАВ  ПЕЛИ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993366"/>
                </a:solidFill>
                <a:latin typeface="Monotype Corsiva"/>
              </a:rPr>
              <a:t>ВИД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66"/>
                </a:solidFill>
                <a:latin typeface="Monotype Corsiva"/>
              </a:rPr>
              <a:t>БЕЛОГЛАВ ЛЕШОЯ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ИСКЪРСКИ ПРО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9:05:09Z</dcterms:created>
  <dc:creator>.</dc:creator>
  <dc:description/>
  <dc:language>en-US</dc:language>
  <cp:lastModifiedBy>.</cp:lastModifiedBy>
  <dcterms:modified xsi:type="dcterms:W3CDTF">2010-01-26T21:16:06Z</dcterms:modified>
  <cp:revision>2</cp:revision>
  <dc:subject/>
  <dc:title>Slide 1</dc:title>
</cp:coreProperties>
</file>